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727-9F46-44C2-9D75-F5A134B2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365-F8BA-4737-9309-296F114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B7-7F40-4854-A9FD-AFE583B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8E2-145E-4FF3-B49C-51A463E9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F387-AA3A-46B2-8FB6-D9BD1695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4D1A-327C-408A-8464-4FBDB63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18C-6D6B-4635-B72C-FAB49D9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9B5-D333-4552-955A-F2C5A8B0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1E2A-CAC1-4A96-BCC9-EA23340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927-0A8B-4B6E-B01C-C65D2BE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C8A7-612C-4DE0-90B8-348D89C7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C60-8F36-4D3C-94E3-70581ED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1E9C-F8CC-4DD4-B60B-7C191E5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88D5-FDA2-4895-A88A-BA1379A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98B6-5CE5-4D34-BCCB-74AEC355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B830-EC9D-480C-BBB1-A53C2C6B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725-EF1B-4B1E-8FE7-C7CAA8B6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AB5-3109-4DE7-AA51-238246D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CE6-B0BA-4182-AA9C-19AADAC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BDA-2596-401D-A98C-BEB5D0C7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FE0-E6F4-42E9-8D17-1560DA1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2DF-1064-4154-9480-6F577E4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0D3-1A1D-44D2-99E8-2146CE7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D9F-F1FD-42A8-A9D5-87A5A6D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CA9-36F2-4668-A46C-E61E4D8073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011C-C110-4A4C-AFEB-6A2D9F8B8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op-lev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724120" cy="22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4095720" cy="210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877680" cy="232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133720" y="4456080"/>
            <a:ext cx="116028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201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8x64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114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hrough Abutment - Fillers with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useful tips for automation through Sk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dures – with @key optional arg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-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ggering for pitch-ma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through abu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deliver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d set of highly parametrized Skill scripts for SRAM schematic and layout gen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and user indep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-specific work – parametrization of schematic and layout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in prog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82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05320" y="3701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191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8006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43434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4952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67080" y="44953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665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-decode o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-muxed 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292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60339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 &amp;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334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5257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440" y="546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d/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952880"/>
            <a:ext cx="1066680" cy="990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019920"/>
            <a:ext cx="1828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90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40240" y="389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 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7800" y="5357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70120" y="475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completely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@key in Skill procedures for optional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stor sizes from optimization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00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(UvaEceSchematicCreateInstParNand2(cvid libName cellName Iname location intop inbot out VDD VSS @key (lp 0.06) (wp 0.20) (ln 0.060) (wn 0.20) (m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P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else – Manual, can be replaced by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W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55556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00600" y="4343400"/>
            <a:ext cx="3124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L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-progra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gered for pitch-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2494080"/>
            <a:ext cx="4415040" cy="85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3048120" y="2437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819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706840"/>
            <a:ext cx="175284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524560" y="24760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581600" y="125676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02160" cy="299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37160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342900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571640" y="4190760"/>
            <a:ext cx="2705400" cy="114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34120" y="25142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19920" y="25909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i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1535400" cy="3074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32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ecode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695400" y="2648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placed and routed by En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Bitsl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011320" cy="3057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257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4193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36572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038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7432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526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 Staggered for pitch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uva</cp:lastModifiedBy>
  <dcterms:modified xsi:type="dcterms:W3CDTF">2010-05-04T15:18:42Z</dcterms:modified>
  <cp:revision>16</cp:revision>
  <dc:subject/>
  <dc:title>SRAM Generator</dc:title>
</cp:coreProperties>
</file>